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DF9-D5D6-4908-9F09-B8C9C84E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195-A289-42CA-AE8E-4F2D3470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96F-74E9-4336-8D86-2F31EE35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48C0-B113-45C4-86A5-C57C45C4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1B9F-7B25-4BF3-BE5D-B1765A93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35B7-1B97-49CB-BA3A-4DE8DF7F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F998-D6E2-48ED-86DD-0AF691E3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8D45-7168-425F-B74A-72428740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BBAF-1F30-48C2-99F6-7CF53337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36BF-D788-4FD4-9391-B709BF16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5757-B574-49D5-9410-5387CDB9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B47-1E42-402B-9668-F8F236E8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17BB-FF63-47E4-BD81-5D3140C9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90C5-F5E4-4F0C-97C0-A7E4811A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A2EF-B0E7-4805-B454-5B21F526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BAD7-0992-447E-B83B-E66E7FA7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DEED-E6CC-4E35-B840-B767CBB5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6D4-0CEA-42F6-98C4-B6249AE2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24A-86F2-44F2-90A9-A559D163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0CB6-0FF8-4353-AE8F-D962C580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D61-359A-4EBC-B64A-75AD1C16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A242-96E3-45E5-A813-0E3D66FE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6BA-45A0-4C46-88E4-D037CDFE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51F-6FF9-4ECE-93C3-075FB2CA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5F42-EAA5-40A3-A6DA-575EA2941F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EE46-1243-4FE9-A2CA-9EF7E37CCE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Verdana"/>
              </a:rPr>
              <a:t>Однокоренные слова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48720" cy="8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Какое слово здесь лишнее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4857840" y="335772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 ПЕЧУ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4929120" y="407196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 ПЕЧАТА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4929120" y="48578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 ПЕЧ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929120" y="564372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 ПЕЧНИ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Verdana"/>
              </a:rPr>
              <a:t>Однокоренные слова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93440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Какое слово здесь лишнее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857840" y="3357720"/>
            <a:ext cx="37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 НОСИЛЬЩИ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929120" y="407196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 НОСАТ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929120" y="48578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 Н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929120" y="564372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 НОСИШК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Verdana"/>
              </a:rPr>
              <a:t>Однокоренные слова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3440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Какое слово здесь лишнее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4857840" y="335772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 ЗАВЕС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4929120" y="407196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 ОБВЕС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929120" y="48578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 ВЕСЁЛ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4929120" y="564372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 ДОВЕС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горь Саченко</dc:creator>
  <dc:description/>
  <dc:language>en-US</dc:language>
  <cp:lastModifiedBy>Игорь Саченко</cp:lastModifiedBy>
  <dcterms:modified xsi:type="dcterms:W3CDTF">2009-01-26T06:59:4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